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1BB-1119-4391-B4AA-2ED2F685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68F-DB3B-48DA-9E54-EEB3DE42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F7C-C1F9-494A-AD50-EDCCAFC9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243-B337-430F-8DCD-300B2482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545-9BF5-4EE0-B886-42383615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92C-59D1-40BA-BDAD-664F8E73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487-9BE7-44BD-BEDA-88474183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947-71A5-4DF4-BFAC-2E4B4A65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D1F-DD61-4249-B36A-6E630DA9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BE0-B81C-43AC-A560-A7821989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3B2-C3D5-4041-8269-ABDF57E6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3A4D-E610-400E-B2A5-523336B4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2866-30A6-4265-8D27-D3ED7B1C6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7600"/>
            <a:ext cx="883908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0280" y="1127160"/>
            <a:ext cx="8156520" cy="4800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grade Siebel to a supported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grade to Oracle 9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all existing user functionality with no degradation in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grade Siebel software v6.3 to v7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grade Oracle database 8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9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all existing Siebel functionality from v6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all existing functionality to interfaces (L*, Reports/Extracts, ETS        (internal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developers to more easily enhance system functionality going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 thin-client for external Settlement Disputes &amp; Service Requ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8280" y="711360"/>
            <a:ext cx="47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54920" y="15228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0280" y="1066680"/>
            <a:ext cx="8156520" cy="4845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ning Saturday, April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rough Sunday, April 1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where we are in the convers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ny remaining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periodic “Go Live” Check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-G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to work through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emaining effort and determine next check-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out Plan (Time schedule being finaliz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Li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verification of Production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on all Inbound and Outbound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monitoring transaction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4920" y="7113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grade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0280" y="1066680"/>
            <a:ext cx="8156520" cy="4845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day (4/11) &amp; Wednesday (4/13) 2:00pm Retail Market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discussion of upcoming shut-down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iday April 15th (mid-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transaction process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queu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oc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s &amp; TDSPs to provide status of transaction volu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iday April 15th (early eve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transaction process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queu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oc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4920" y="71136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erenc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0280" y="1066680"/>
            <a:ext cx="8156520" cy="4845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 April 16th (late afterno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/ No-Go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day April 17th (mor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/ No-Go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day April 17th (late afternoon if nee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/ No-Go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4920" y="71136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erenc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0280" y="1066680"/>
            <a:ext cx="8156520" cy="4845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as run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valu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v7.7 Test Cases with all applications in iTest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currently has only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valu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n defects out of a total of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valu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gged.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date, ERCOT has identified “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1" i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value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gt;”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defects are categorized as follow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ocumentation and Script errors o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Bugs (Coding errors requiring application level chan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ystem or Environment re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known (Root cause not reported or still in analy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4200" y="71136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0280" y="1066680"/>
            <a:ext cx="8156520" cy="4845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is the status to-date of the Siebel 7.7 Testing Efforts in anticipation of the 04/17/2005 roll-out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st De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Processing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 % comple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 % 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ervice / C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 % comple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 % 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 % comple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 % 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Archive Repor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 % comple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 % 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4200" y="71136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0280" y="1069920"/>
            <a:ext cx="8156520" cy="4797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Sept ‘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Completed in January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In Progress – Scheduled Implementation April 15-17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Goal to complete early June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testing in several lower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Scripts and Final Design sign-off unde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 cosmetic modifications rem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our migration to iTest on February 17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internal training materials for week of March 14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Migration Plan including Contingency “Fall-back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9360" y="71136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4920" y="15228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0280" y="1069920"/>
            <a:ext cx="8156520" cy="4797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early January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Design (Internal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mid February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eted late February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Goal to complete mid April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Goal to complete mid March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eb Cast conducted for Settlement Disputes prior to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pril 15-17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7920" y="711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920" y="15228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0280" y="1069920"/>
            <a:ext cx="8156520" cy="4797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John Kassel   ph: 512-248-65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: jkassel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CO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ject was a CASUP recommendation approved by ERCOT Executive committee and the ERCOT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support expired for existing version of Siebel and Oracle in 2004 – cost to maintain becomes significant if major problems a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 is the Registration system for all ERCOT’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 has limited Portal interaction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54920" y="15228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0280" y="1069920"/>
            <a:ext cx="8156520" cy="4797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nagement of ALL 814 and 867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workflow of service orders and servic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administration and relationship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s and Ex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Requests functionality and screen design (Wholesale and Ret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Disputes functionality and screen design (Wholes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920" y="711360"/>
            <a:ext cx="25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54920" y="15228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0280" y="1069920"/>
            <a:ext cx="8156520" cy="4797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is time, ERCOT anticipates the outage timeframe below for the April Maintenance Retail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frame is subject to change and confirmation will be provided prior to the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iday, April 15, 2005 through Sunday, April 17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the out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nsactions sent to ERCOT will be held at the Paperfree server during the ou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7 trans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forwarded during the ou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ESB EDM and ANSI respons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sent during the outage (i.e. This includes 997 Functional Acknowledg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 functionality will not be 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 components of the TML and API wi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vailable (i.e. This includes Find ESI, Find Transaction and Submit Transa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Disputes and Service Requests wi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9360" y="71136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System Outage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0280" y="1069920"/>
            <a:ext cx="8156520" cy="4797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utdown times listed will be strictly adhered to unless prior notice is given to all 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Ps should submit transactions well in advance of the shutdown time so that large transaction volumes are not experienced just prior to shut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.e. if you run batch jobs, schedule them throughout the day)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Ps will have the opportunity to call-in to each conference call during the implementation if they wish to hear a progres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imes listed are Central Prevail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7560" y="711360"/>
            <a:ext cx="24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utdow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0280" y="1069920"/>
            <a:ext cx="8156520" cy="4797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iday, April 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mid-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up NAESB and Paper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t down XML Mover (for 814 &amp; 824 transactions) and 867 Up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t down TML component for Settlement Disputes – for Q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t down TML component for Service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isolate TCH process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9999"/>
              </a:buClr>
              <a:buFont typeface="Arial"/>
              <a:buChar char="–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MP transactions will be held at Paper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4320" indent="-342720">
              <a:lnSpc>
                <a:spcPct val="100000"/>
              </a:lnSpc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ESB EDM 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73200" indent="-34272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4320" indent="-342720">
              <a:lnSpc>
                <a:spcPct val="100000"/>
              </a:lnSpc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d transactions will be converted to XML and staged for 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inbound shut down, all in-flight transactions will continue to be processed and corresponding outbound transactions will be delivered throughout the day until the queues have been cle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6840" y="71136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action Processing - In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78400" y="4162320"/>
            <a:ext cx="34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RCOT will continue to sen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11480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0280" y="1066680"/>
            <a:ext cx="8156520" cy="4845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iday, April 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arly eve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 sending 814 &amp; 824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Siebel code migration and data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2040" y="71136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action Processing - Out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A. Boren</cp:lastModifiedBy>
  <dcterms:modified xsi:type="dcterms:W3CDTF">2005-03-02T17:06:36Z</dcterms:modified>
  <cp:revision>169</cp:revision>
  <dc:subject/>
  <dc:title>TX SET V1.5 RFP Evaluation Recommendation</dc:title>
</cp:coreProperties>
</file>